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1A19C-5929-4CA6-9662-470FFF324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3CD4-33DB-4B85-9748-D559922E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4F467-F183-45F6-B2F9-1FC03AB86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BCB4-BE00-459E-B018-7D2562A4E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AE64C-C0B3-47EC-B0AC-909D26B8F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7A1A1-C473-4587-A18F-05426FF4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2B633-B81E-43E8-8DBE-4DAA2C7B7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D84BB-F2BA-4272-A147-A42E9C951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CCA80-ABCA-4ADE-820E-D6506B38F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78451-29C1-4502-BCF2-4222B6CB9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04921-8B60-4296-AC11-F8A69A1F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1C9E-4BA1-4C6B-AAD9-B5C57D2D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DCF2A-DDD9-49E6-9C45-1A841A73C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6DFB-FF72-4CBB-89A7-4DA213A77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41653-AAD1-4F2F-BC22-48189487D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8EB7E-5EED-4F4B-95AE-489E8B9F5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D9E1F-8F3C-414B-B5C9-6DC537270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6B747-2641-4995-B489-2373C843B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B2341-DB4B-4FCA-A31F-25E821D22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DDE83-ADCF-4FCC-A58E-57357D1C4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66150-BDF8-4F73-9F8E-1FC91A41A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1A3D91-D3BC-4B8A-9BF6-CB1C9997E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B6794-E710-4DC1-836D-AD71A0D87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9A39B-639B-4233-8837-38198DC09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1AD26-A8E1-4D11-AFCF-0297EA61A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7F8F4-D745-4FD2-9B74-0F324FB9A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93F6A-1765-44D1-95B3-AB3D0D62A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79F18-4D42-4822-9FB8-DA435DEFC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6EEA6-88D1-4F28-B925-EAF6341DA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2833C-68DE-414C-9F27-7DCA1C4B6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001128-4AF3-4EEC-813B-8638F4EB6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25655-9E69-4C99-9688-67FFAFD2A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4A6AD-6625-4234-BCB9-6291F1213E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47A04-EBD4-48EB-B0BD-FC2AF520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CD20F-24B5-4A2F-8F0E-8456D79C0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31F144-4266-48D2-89FC-638D92C98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E8D51-455B-42B0-8F00-EE47AF657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1F809-B5C8-4490-AA43-12BBFDB59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A2118-0D7E-4415-AC4A-16EDF573F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AE79E-A765-42E5-9B12-02C2BD479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75A6C-6F2E-43DE-84B9-FDD850D9C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1B35A3-E119-4892-8511-E1EB22F2C5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C821CB-8339-456E-A8CD-A1702C4AD2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7E6D2-86D1-468C-8F86-18C29228F8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7BFC-01D6-41CD-BCB1-563E36A4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4DEAC-1D59-4B4E-B527-D3953D26F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D28C6D-0F52-48FE-9643-C6B7FA1B6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F3B7B-D1AB-4F3F-AF22-461FA6513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D4F9C7-9D3C-48CB-9ADD-C230AD23B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961DC-FCE3-4737-A795-05F2D32C8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32794-7C9C-4C54-8661-F6CF16530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2868E-2379-49B8-8B7D-813D37A84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5BACC-7554-4D13-B954-A0625F903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DDB83-4D7B-4F90-A2FB-8E1B8068C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21B741-CB49-4EF1-B10C-3A927C1FD2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C1389-E6FE-4DBC-9C36-01026347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6152FE-28EC-43B1-B523-1FDD0163AD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8EC3-A117-44A7-BFDA-84E880FD4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6E62-E59A-4D37-B2C8-4EDA1A3DC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239B-D251-4AF0-8392-823E02B99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AE65-B574-485E-89F2-0550A876FA7E}"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D572-235B-4B4E-AFFD-C0938F0651A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90E4-F288-42E1-A48E-FDB9859F4E0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53C7-929D-4894-8531-89411244E74E}"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A779-28FC-47F8-97B4-A992986B097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8d3e"/>
                </a:solidFill>
                <a:latin typeface="Verdana"/>
              </a:rPr>
              <a:t>Capstone</a:t>
            </a:r>
            <a:br>
              <a:rPr sz="4100"/>
            </a:br>
            <a:r>
              <a:rPr b="1" lang="en-US" sz="4100" spc="-1" strike="noStrike">
                <a:solidFill>
                  <a:srgbClr val="ff8d3e"/>
                </a:solidFill>
                <a:latin typeface="Verdana"/>
              </a:rPr>
              <a:t>Elementary and Middle Master’s Level Students  </a:t>
            </a:r>
            <a:br>
              <a:rPr sz="4100"/>
            </a:br>
            <a:r>
              <a:rPr b="1" lang="en-US" sz="2500" spc="-1" strike="noStrike">
                <a:solidFill>
                  <a:srgbClr val="ff8d3e"/>
                </a:solidFill>
                <a:latin typeface="Verdana"/>
              </a:rPr>
              <a:t>What? </a:t>
            </a:r>
            <a:br>
              <a:rPr sz="2500"/>
            </a:br>
            <a:r>
              <a:rPr b="1" lang="en-US" sz="2500" spc="-1" strike="noStrike">
                <a:solidFill>
                  <a:srgbClr val="ff8d3e"/>
                </a:solidFill>
                <a:latin typeface="Verdana"/>
              </a:rPr>
              <a:t>Now What?</a:t>
            </a:r>
            <a:endParaRPr b="1" lang="en-US" sz="2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Gardner-Webb Univers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ther Information</a:t>
            </a:r>
            <a:r>
              <a:rPr b="0" lang="en-US"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orking with human subjects, candidate will submit an application to the Institutional Review Board (IRB) of the university. Studies of human subjects are not allowed without permission from the IRB. Specific instructions for the IRB process will be explained and completed in EDUC 633 &amp; 643.</a:t>
            </a: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 will use the Gardner-Webb Style Guide and the Sixth Edition of the APA Publication Manual</a:t>
            </a: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562360"/>
            <a:ext cx="8183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400" spc="-1" strike="noStrike">
                <a:solidFill>
                  <a:srgbClr val="ff8d3e"/>
                </a:solidFill>
                <a:latin typeface="Verdana"/>
              </a:rPr>
              <a:t>NC Professional Teaching Standards</a:t>
            </a:r>
            <a:endParaRPr b="1" lang="en-US" sz="24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ndards for Graduate Teacher Candidates</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rth Carolina Professional Teaching Standards Commission developed teaching standards based on a “new vision of teaching” in light of 21st century opportunities, needs and demands.  The following five graduate program standards are parallel to and expand upon those standards.  These are advanced standards, appropriate for teacher education programs to use as guidelines in developing their graduate level teaching programs.  Teachers granted the master’s degree license are expected to be teacher leaders in their specialty area, to facilitate the creation of healthy educational environments, to have deep knowledge and skills in their content and curriculum, to use research in making decisions about effective practice for student learning, and to be continuous, reflective practitioners who model the values of lifelong learning, critical thinking, problem-solving and innovation.  A new standard has been added recently which states that teachers contribute to the academic success of students.</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Standard 1:  Teacher Leadership </a:t>
            </a:r>
            <a:endParaRPr b="0" lang="en-US" sz="24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assume the roles and responsibilities of collaborative leaders in schools and communities.  Teachers demonstrate leadership in their classrooms, schools and professional organizations; they advocate for students and effective educational practices and policies; and they are role models for ethical leadership.  Teacher leaders will know and be able to: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effective ongoing communication, collaboration, and team-building among colleague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mentoring and coaching with novice teacher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goals and establish priorities while promoting educational initiatives that positively affect student learning.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e in professional learning communities. </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54160" indent="-2541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endParaRPr b="0" lang="en-US" sz="7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6095880"/>
            <a:ext cx="818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8d3e"/>
                </a:solidFill>
                <a:latin typeface="Verdana"/>
              </a:rPr>
              <a:t>Standards cont.</a:t>
            </a:r>
            <a:endParaRPr b="1" lang="en-US" sz="32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fontScale="82000"/>
          </a:bodyPr>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r>
              <a:rPr b="1" lang="en-US" sz="2000" spc="-1" strike="noStrike">
                <a:solidFill>
                  <a:srgbClr val="000000"/>
                </a:solidFill>
                <a:latin typeface="Verdana"/>
              </a:rPr>
              <a:t>Standard 2:  Respectful Educational Environments</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model leadership by establishing a positive and productive environment for a diverse population of students, their families, and the community.  Teachers are knowledgeable about cultures and global issues and how they are contextualized locally.  Teachers help colleagues develop effective strategies for students with special needs.  They encourage positive, constructive relations among colleagues and students.  Teacher leader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the development of inviting, respectful, supportive, inclusive, and flexible educational communitie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collaborative partnerships with families, schools, and communities to promote a positive school culture.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and model caring and respectful treatment of individuals within the learning community.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knowledge and understanding of diverse world cultures and global issue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ourage high expectations for all students. </a:t>
            </a:r>
            <a:endParaRPr b="0" lang="en-US" sz="2000" spc="-1" strike="noStrike">
              <a:solidFill>
                <a:srgbClr val="000000"/>
              </a:solidFill>
              <a:latin typeface="Verdana"/>
            </a:endParaRPr>
          </a:p>
          <a:p>
            <a:pPr marL="217080" indent="-2170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vely design and implement curriculum and instruction that is responsive to learner differenc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3:  Content and Curriculum Expertise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acher leaders have a deep knowledge of the subjects they teach and understanding of curriculum theory and development.  They value collaboration and the interconnectedness of disciplines.  They understand the importance of curriculum relevance in engaging students in content.  Teacher leaders: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in-depth knowledge of curriculum, instruction, and assessmen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the integration of 21st century content and skills into educational practices.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relevant, rigorous curriculum.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 </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2760"/>
            <a:ext cx="8183520" cy="15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4:  Student Learning </a:t>
            </a:r>
            <a:endParaRPr b="0" lang="en-US" sz="24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 </a:t>
            </a:r>
            <a:r>
              <a:rPr b="0" i="1" lang="en-US" sz="1800" spc="-1" strike="noStrike">
                <a:solidFill>
                  <a:srgbClr val="000000"/>
                </a:solidFill>
                <a:latin typeface="Verdana"/>
              </a:rPr>
              <a:t>Teacher leaders facilitate student learning through evidence-based practice informed by research. They understand and apply research in child and adolescent development, cognitive development, and general and specialized pedagogy.  They encourage critical reading, writing and thinking in the learning process.  They foster instructional and evaluation methods that embrace variety and authenticity.  They promote student reflection and self-assessment.  They encourage colleagues and students to take on leadership roles and work in teams.  Teacher leader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k out and use existing research to inform school practice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action research to investigate and improve student learning and school policies and practices.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el technology integration that supports student learning. </a:t>
            </a:r>
            <a:endParaRPr b="0" lang="en-US" sz="18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itically analyze student and school performance data to determine needs and plan instruction that is rigorous, coherent, and substantiated within a theoretical and philosophical bas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5:  Reflection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Teacher leaders contribute to systematic, critical analysis of learning in their classrooms and beyond.  They are lifelong learners who model and support ongoing professional development.  Teachers embrace critical thinking, problem solving, and innovation. Teacher leaders: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omote an educational culture that values reflective practice.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odel the development of meaningful professional goals.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personal and professional reflection to extend student learning and school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andards cont.</a:t>
            </a:r>
            <a:endParaRPr b="1" lang="en-US" sz="3600" spc="-1" strike="noStrike">
              <a:solidFill>
                <a:srgbClr val="ff8d3e"/>
              </a:solidFill>
              <a:latin typeface="Verdana"/>
            </a:endParaRPr>
          </a:p>
        </p:txBody>
      </p:sp>
      <p:sp>
        <p:nvSpPr>
          <p:cNvPr id="25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6: (new in August 201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contribute to the academic success of student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defined by the state of NC</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Mentors:</a:t>
            </a:r>
            <a:endParaRPr b="0" lang="en-US" sz="28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stone mentors will be the instructors of EDUC 613/641 class.  These instructors will assist the students all the way through the process and serve with the teachers of the second and third capstone class as readers of the final capstone on Task Stream.</a:t>
            </a:r>
            <a:endParaRPr b="0" lang="en-US" sz="24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re teaching Capstone 1, Capstone 2, and/or Capstone 3 classes, you will be a Task Stream evaluator for the assign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Journals</a:t>
            </a:r>
            <a:endParaRPr b="1" lang="en-US" sz="3600" spc="-1" strike="noStrike">
              <a:solidFill>
                <a:srgbClr val="ff8d3e"/>
              </a:solidFill>
              <a:latin typeface="Verdana"/>
            </a:endParaRPr>
          </a:p>
        </p:txBody>
      </p:sp>
      <p:sp>
        <p:nvSpPr>
          <p:cNvPr id="259" name=""/>
          <p:cNvSpPr txBox="1"/>
          <p:nvPr/>
        </p:nvSpPr>
        <p:spPr>
          <a:xfrm>
            <a:off x="503280" y="529920"/>
            <a:ext cx="8183520" cy="487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are expected to keep journals throughout the capstone process</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ournal entries should include the following: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400" spc="-1" strike="noStrike">
                <a:solidFill>
                  <a:srgbClr val="000000"/>
                </a:solidFill>
                <a:latin typeface="Verdana"/>
              </a:rPr>
              <a:t>What happened – descriptions of events occurring in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y it happened – reflections on the context of event descriptions examining the reasons surrounding specific details of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t might mean – reflections on the impact specific events have on future decisions/actions in the action research process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mpact on school environment – reflections on the impact specific events have on the classroom environment and beyond (Standard 5)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es their work during the process reflect the six standards?</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submission of the action research capstone paper, students must submit a minimum of 10 selected journal entries representing multiple points of the action research process over time. In addition, an introductory document briefly describing the rationale for inclusion of the selected journal entries (1-2 pages) should accompany this assignmen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Components</a:t>
            </a:r>
            <a:endParaRPr b="1" lang="en-US" sz="3600" spc="-1" strike="noStrike">
              <a:solidFill>
                <a:srgbClr val="ff8d3e"/>
              </a:solidFill>
              <a:latin typeface="Verdana"/>
            </a:endParaRPr>
          </a:p>
        </p:txBody>
      </p:sp>
      <p:sp>
        <p:nvSpPr>
          <p:cNvPr id="2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 and Middle Grades Masters students will develop and submit a capstone project during the process of coursework at Gardner-Webb.</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llowing outlines will give you information of when students will be expected to complete each part of the proc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a:t>
            </a:r>
            <a:endParaRPr b="1" lang="en-US" sz="3600" spc="-1" strike="noStrike">
              <a:solidFill>
                <a:srgbClr val="ff8d3e"/>
              </a:solidFill>
              <a:latin typeface="Verdana"/>
            </a:endParaRPr>
          </a:p>
        </p:txBody>
      </p:sp>
      <p:sp>
        <p:nvSpPr>
          <p:cNvPr id="261" name=""/>
          <p:cNvSpPr txBox="1"/>
          <p:nvPr/>
        </p:nvSpPr>
        <p:spPr>
          <a:xfrm>
            <a:off x="503280" y="529920"/>
            <a:ext cx="8183520" cy="487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urpose of this requirement is to share the individual action research projects with other professionals or interested parties, thus demonstrating leadership in classrooms, schools, and professional organizations by promoting scholarly research among educators (Standard 1). The following components from the individual action research project should be highlighted for this presentation:</a:t>
            </a:r>
            <a:r>
              <a:rPr b="0" lang="en-US" sz="1400" spc="-1" strike="noStrike">
                <a:solidFill>
                  <a:srgbClr val="000000"/>
                </a:solidFill>
                <a:latin typeface="Verdana"/>
              </a:rPr>
              <a:t> </a:t>
            </a:r>
            <a:endParaRPr b="0" lang="en-US" sz="1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blem descrip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blem documenta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ting: Population/group selected for the study and context of the study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ution strategy or strategie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mmendations for change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mmendations for future researcher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icitation of audience feedback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 cont.</a:t>
            </a:r>
            <a:endParaRPr b="1" lang="en-US" sz="3600" spc="-1" strike="noStrike">
              <a:solidFill>
                <a:srgbClr val="ff8d3e"/>
              </a:solidFill>
              <a:latin typeface="Verdana"/>
            </a:endParaRPr>
          </a:p>
        </p:txBody>
      </p:sp>
      <p:sp>
        <p:nvSpPr>
          <p:cNvPr id="26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hough the literature review is a major component of the action research capstone paper, presenters do not typically dedicate a large portion of time to it. Teacher leaders may briefly mention some key studies, but exhaustive reviews of the literature do not make for particularly stimulating presentations. Concentrate on the “action” part of the research project, highlighting the background, selected solution strategy or strategies and potential for future applications.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may present their proposals at any of the following: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istrict workshop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 in the work setting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ent group, school board, or other faculty group meeting </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apstone Presentation, cont.</a:t>
            </a:r>
            <a:endParaRPr b="1" lang="en-US" sz="3600" spc="-1" strike="noStrike">
              <a:solidFill>
                <a:srgbClr val="ff8d3e"/>
              </a:solidFill>
              <a:latin typeface="Verdana"/>
            </a:endParaRPr>
          </a:p>
        </p:txBody>
      </p:sp>
      <p:sp>
        <p:nvSpPr>
          <p:cNvPr id="26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ote the following requirements for the presentation: </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esentation should be 30 minutes with 10-15 of these minutes used to answer questions.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s may choose a lecture-based or interactive format for the presentation. </a:t>
            </a:r>
            <a:endParaRPr b="0" lang="en-US" sz="16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s should include visuals created with the use of technology, when possible. These may include, but are not limited to, PowerPoint® presentations, overhead slides created from a PowerPoint® presentation, or multimedia presentations of another nature. Handwritten transparencies are not acceptable. </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e final hour of the three-hour capstone seminar, students must prove to the faculty member that they have completed the presentation and have received feedback from those present. This feedback should pertain to how the presentation will/has impacted or changed existing practice.</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Questions</a:t>
            </a:r>
            <a:endParaRPr b="1" lang="en-US" sz="3600" spc="-1" strike="noStrike">
              <a:solidFill>
                <a:srgbClr val="ff8d3e"/>
              </a:solidFill>
              <a:latin typeface="Verdana"/>
            </a:endParaRPr>
          </a:p>
        </p:txBody>
      </p:sp>
      <p:sp>
        <p:nvSpPr>
          <p:cNvPr id="26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further ques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graphicFrame>
        <p:nvGraphicFramePr>
          <p:cNvPr id="225" name="Content Placeholder 3"/>
          <p:cNvGraphicFramePr/>
          <p:nvPr/>
        </p:nvGraphicFramePr>
        <p:xfrm>
          <a:off x="581040" y="380880"/>
          <a:ext cx="7523280" cy="5718240"/>
        </p:xfrm>
        <a:graphic>
          <a:graphicData uri="http://schemas.openxmlformats.org/presentationml/2006/ole">
            <p:oleObj progId="Word.Document.12" r:id="rId1" spid="">
              <p:embed/>
              <p:pic>
                <p:nvPicPr>
                  <p:cNvPr id="226" name="Content Placeholder 3" descr=""/>
                  <p:cNvPicPr/>
                  <p:nvPr/>
                </p:nvPicPr>
                <p:blipFill>
                  <a:blip r:embed="rId2"/>
                  <a:stretch/>
                </p:blipFill>
                <p:spPr>
                  <a:xfrm>
                    <a:off x="581040" y="380880"/>
                    <a:ext cx="7523280" cy="57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graphicFrame>
        <p:nvGraphicFramePr>
          <p:cNvPr id="228" name="Content Placeholder 5"/>
          <p:cNvGraphicFramePr/>
          <p:nvPr/>
        </p:nvGraphicFramePr>
        <p:xfrm>
          <a:off x="990720" y="530280"/>
          <a:ext cx="7391160" cy="5641920"/>
        </p:xfrm>
        <a:graphic>
          <a:graphicData uri="http://schemas.openxmlformats.org/presentationml/2006/ole">
            <p:oleObj progId="Word.Document.12" r:id="rId1" spid="">
              <p:embed/>
              <p:pic>
                <p:nvPicPr>
                  <p:cNvPr id="229" name="Content Placeholder 5" descr=""/>
                  <p:cNvPicPr/>
                  <p:nvPr/>
                </p:nvPicPr>
                <p:blipFill>
                  <a:blip r:embed="rId2"/>
                  <a:stretch/>
                </p:blipFill>
                <p:spPr>
                  <a:xfrm>
                    <a:off x="990720" y="530280"/>
                    <a:ext cx="7391160" cy="56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
          <p:cNvSpPr txBox="1"/>
          <p:nvPr/>
        </p:nvSpPr>
        <p:spPr>
          <a:xfrm>
            <a:off x="503280" y="530280"/>
            <a:ext cx="8183520" cy="5261040"/>
          </a:xfrm>
          <a:prstGeom prst="rect">
            <a:avLst/>
          </a:prstGeom>
          <a:noFill/>
          <a:ln w="0">
            <a:noFill/>
          </a:ln>
        </p:spPr>
        <p:txBody>
          <a:bodyPr lIns="182880" tIns="91440" anchor="t">
            <a:normAutofit fontScale="82000"/>
          </a:bodyPr>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Capstone Course 1 </a:t>
            </a:r>
            <a:r>
              <a:rPr b="0" lang="en-US" sz="2800" spc="-1" strike="noStrike">
                <a:solidFill>
                  <a:srgbClr val="000000"/>
                </a:solidFill>
                <a:latin typeface="Verdana"/>
              </a:rPr>
              <a:t>(EDUC 631 &amp;641): </a:t>
            </a: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 631 and 641–</a:t>
            </a:r>
            <a:endParaRPr b="0" lang="en-US" sz="28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Decide on an action research question at your school and outline Chapter 1 of the capstone.</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 writing Chapter 1 (Introduction and Problem Statement)of the capstone by following the handout from your instructor.</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Chapter 2 (Study of the Problem-Literature Review) (at least an outline should be done)</a:t>
            </a: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7080" indent="-217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Capstone Course 2 </a:t>
            </a:r>
            <a:r>
              <a:rPr b="0" lang="en-US" sz="2800" spc="-1" strike="noStrike">
                <a:solidFill>
                  <a:srgbClr val="000000"/>
                </a:solidFill>
                <a:latin typeface="Verdana"/>
              </a:rPr>
              <a:t>(EDUC 633 &amp; 643):</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nd submit to </a:t>
            </a:r>
            <a:r>
              <a:rPr b="1" i="1" lang="en-US" sz="2400" spc="-1" strike="noStrike">
                <a:solidFill>
                  <a:srgbClr val="000000"/>
                </a:solidFill>
                <a:latin typeface="Verdana"/>
              </a:rPr>
              <a:t>Task Stream</a:t>
            </a:r>
            <a:r>
              <a:rPr b="0" lang="en-US" sz="2400" spc="-1" strike="noStrike">
                <a:solidFill>
                  <a:srgbClr val="000000"/>
                </a:solidFill>
                <a:latin typeface="Verdana"/>
              </a:rPr>
              <a:t> the capstone thesis in a Word document that includes the following par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ver Pag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 Introduction and Problem Stateme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of Term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2 Study of the Problem/Review of Literatur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stone Development Proces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i="1" lang="en-US" sz="2800" spc="-1" strike="noStrike">
                <a:solidFill>
                  <a:srgbClr val="000000"/>
                </a:solidFill>
                <a:latin typeface="Verdana"/>
              </a:rPr>
              <a:t>Capstone</a:t>
            </a:r>
            <a:r>
              <a:rPr b="0" lang="en-US" sz="2800" spc="-1" strike="noStrike">
                <a:solidFill>
                  <a:srgbClr val="000000"/>
                </a:solidFill>
                <a:latin typeface="Verdana"/>
              </a:rPr>
              <a:t> </a:t>
            </a:r>
            <a:r>
              <a:rPr b="1" i="1" lang="en-US" sz="2800" spc="-1" strike="noStrike">
                <a:solidFill>
                  <a:srgbClr val="000000"/>
                </a:solidFill>
                <a:latin typeface="Verdana"/>
              </a:rPr>
              <a:t>Course 2</a:t>
            </a:r>
            <a:r>
              <a:rPr b="0" lang="en-US" sz="2800" spc="-1" strike="noStrike">
                <a:solidFill>
                  <a:srgbClr val="000000"/>
                </a:solidFill>
                <a:latin typeface="Verdana"/>
              </a:rPr>
              <a:t> (EDUC 633&amp; 643):</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3 Methodology/Outline and Evaluatio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sign of Study</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limitation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r>
              <a:rPr b="0"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ures</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onents for </a:t>
            </a:r>
            <a:r>
              <a:rPr b="1" i="1" lang="en-US" sz="2800" spc="-1" strike="noStrike">
                <a:solidFill>
                  <a:srgbClr val="000000"/>
                </a:solidFill>
                <a:latin typeface="Verdana"/>
              </a:rPr>
              <a:t>Capstone Course 3 </a:t>
            </a:r>
            <a:r>
              <a:rPr b="0" lang="en-US" sz="2800" spc="-1" strike="noStrike">
                <a:solidFill>
                  <a:srgbClr val="000000"/>
                </a:solidFill>
                <a:latin typeface="Verdana"/>
              </a:rPr>
              <a:t>(EDUC 635 &amp; 645):</a:t>
            </a:r>
            <a:endParaRPr b="0" lang="en-US" sz="2800" spc="-1" strike="noStrike">
              <a:solidFill>
                <a:srgbClr val="000000"/>
              </a:solidFill>
              <a:latin typeface="Verdana"/>
            </a:endParaRPr>
          </a:p>
          <a:p>
            <a:pPr marL="235800" indent="-23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Page</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ct</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1 Introduction and Problem Statement</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2 Study of the Problem/Review of Literature</a:t>
            </a:r>
            <a:endParaRPr b="0" lang="en-US" sz="2800" spc="-1" strike="noStrike">
              <a:solidFill>
                <a:srgbClr val="000000"/>
              </a:solidFill>
              <a:latin typeface="Verdana"/>
            </a:endParaRPr>
          </a:p>
          <a:p>
            <a:pPr marL="235800" indent="-2358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3 Methodology/Outline and Evaluation</a:t>
            </a:r>
            <a:endParaRPr b="0" lang="en-US" sz="2800" spc="-1" strike="noStrike">
              <a:solidFill>
                <a:srgbClr val="000000"/>
              </a:solidFill>
              <a:latin typeface="Verdana"/>
            </a:endParaRPr>
          </a:p>
          <a:p>
            <a:pPr marL="235800" indent="-23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
          <p:cNvSpPr txBox="1"/>
          <p:nvPr/>
        </p:nvSpPr>
        <p:spPr>
          <a:xfrm>
            <a:off x="503280" y="529920"/>
            <a:ext cx="8183520" cy="54896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onents for </a:t>
            </a:r>
            <a:r>
              <a:rPr b="1" i="1" lang="en-US" sz="2800" spc="-1" strike="noStrike">
                <a:solidFill>
                  <a:srgbClr val="000000"/>
                </a:solidFill>
                <a:latin typeface="Verdana"/>
              </a:rPr>
              <a:t>Capstone</a:t>
            </a:r>
            <a:r>
              <a:rPr b="0" lang="en-US" sz="2800" spc="-1" strike="noStrike">
                <a:solidFill>
                  <a:srgbClr val="000000"/>
                </a:solidFill>
                <a:latin typeface="Verdana"/>
              </a:rPr>
              <a:t> </a:t>
            </a:r>
            <a:r>
              <a:rPr b="1" i="1" lang="en-US" sz="2800" spc="-1" strike="noStrike">
                <a:solidFill>
                  <a:srgbClr val="000000"/>
                </a:solidFill>
                <a:latin typeface="Verdana"/>
              </a:rPr>
              <a:t>Course 3 </a:t>
            </a:r>
            <a:r>
              <a:rPr b="0" i="1" lang="en-US" sz="2800" spc="-1" strike="noStrike">
                <a:solidFill>
                  <a:srgbClr val="000000"/>
                </a:solidFill>
                <a:latin typeface="Verdana"/>
              </a:rPr>
              <a:t>(EDUC 635 &amp; 645):</a:t>
            </a: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pter 3 of the capstone continued:</a:t>
            </a:r>
            <a:endParaRPr b="0" lang="en-US" sz="28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limitation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r>
              <a:rPr b="0" lang="en-US" sz="2400" spc="-1" strike="noStrike">
                <a:solidFill>
                  <a:srgbClr val="000000"/>
                </a:solidFill>
                <a:latin typeface="Verdana"/>
              </a:rPr>
              <a:t>	</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ure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hapter 4 Results</a:t>
            </a:r>
            <a:endParaRPr b="0" lang="en-US" sz="24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hapter 5 Conclusions, Discussions, and Recommend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3:32Z</dcterms:created>
  <dc:creator>User</dc:creator>
  <dc:description/>
  <dc:language>en-US</dc:language>
  <cp:lastModifiedBy>User</cp:lastModifiedBy>
  <dcterms:modified xsi:type="dcterms:W3CDTF">2011-08-15T17:26:03Z</dcterms:modified>
  <cp:revision>48</cp:revision>
  <dc:subject/>
  <dc:title>Capstone Elementary and Middle Master’s Level Students   What?  Now Wh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viLzRNTueanS4U6YTL03bbOuBPWh52K9TZPC1wyrdWY</vt:lpwstr>
  </property>
  <property fmtid="{D5CDD505-2E9C-101B-9397-08002B2CF9AE}" pid="3" name="Google.Documents.MergeIncapabilityFlags">
    <vt:r8>0</vt:r8>
  </property>
  <property fmtid="{D5CDD505-2E9C-101B-9397-08002B2CF9AE}" pid="4" name="Google.Documents.PluginVersion">
    <vt:lpwstr>2.0.2154.5604</vt:lpwstr>
  </property>
  <property fmtid="{D5CDD505-2E9C-101B-9397-08002B2CF9AE}" pid="5" name="Google.Documents.PreviousRevisionId">
    <vt:lpwstr>17237303838514843204</vt:lpwstr>
  </property>
  <property fmtid="{D5CDD505-2E9C-101B-9397-08002B2CF9AE}" pid="6" name="Google.Documents.RevisionId">
    <vt:lpwstr>14337010797869996138</vt:lpwstr>
  </property>
  <property fmtid="{D5CDD505-2E9C-101B-9397-08002B2CF9AE}" pid="7" name="Google.Documents.Tracking">
    <vt:lpwstr>true</vt:lpwstr>
  </property>
</Properties>
</file>